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B238-E063-47A5-BA86-6757C75C9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8D20-57C9-4F51-A4F1-8D88FB3A9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4AFA-D564-429F-88F5-1F496A3D1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138E-F5F6-492A-BECA-3C86785B8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9348-38D8-46E2-9746-D10EB0E0F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221B-73CF-41BD-8114-FD544BFA5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00EF-11CE-4FF2-9BE7-F7F50B259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4DF4-F3D3-4CC9-BB8B-83353882B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12D6-1A53-4EDB-A2B9-A974BEF5B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BA22-3329-45E8-B32B-0E3E5D3F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4B84-1263-40F5-8CC9-CE73A097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DA49-9A52-42DB-B3D3-AFA2722D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0923E-633C-4230-BDE8-3B9A41BD0E50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맑은 고딕"/>
              </a:rPr>
              <a:t>PPT VBA TEST</a:t>
            </a:r>
            <a:endParaRPr b="0" lang="en-US" sz="6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실행 단추: 앞으로 또는 다음으로 이동 3"/>
          <p:cNvSpPr/>
          <p:nvPr/>
        </p:nvSpPr>
        <p:spPr>
          <a:xfrm>
            <a:off x="4757760" y="4062240"/>
            <a:ext cx="2665440" cy="1352880"/>
          </a:xfrm>
          <a:custGeom>
            <a:avLst/>
            <a:gdLst>
              <a:gd name="textAreaLeft" fmla="*/ 87480 w 2665440"/>
              <a:gd name="textAreaRight" fmla="*/ 2577960 w 2665440"/>
              <a:gd name="textAreaTop" fmla="*/ 87480 h 1352880"/>
              <a:gd name="textAreaBottom" fmla="*/ 1265400 h 1352880"/>
            </a:gdLst>
            <a:ahLst/>
            <a:rect l="textAreaLeft" t="textAreaTop" r="textAreaRight" b="textAreaBottom"/>
            <a:pathLst>
              <a:path w="42551" h="21600">
                <a:moveTo>
                  <a:pt x="0" y="0"/>
                </a:moveTo>
                <a:lnTo>
                  <a:pt x="42551" y="0"/>
                </a:lnTo>
                <a:lnTo>
                  <a:pt x="42551" y="21600"/>
                </a:lnTo>
                <a:lnTo>
                  <a:pt x="0" y="21600"/>
                </a:lnTo>
                <a:close/>
              </a:path>
              <a:path fill="lightenLess" w="42551" h="21600">
                <a:moveTo>
                  <a:pt x="0" y="0"/>
                </a:moveTo>
                <a:lnTo>
                  <a:pt x="42551" y="0"/>
                </a:lnTo>
                <a:lnTo>
                  <a:pt x="41151" y="1400"/>
                </a:lnTo>
                <a:lnTo>
                  <a:pt x="1400" y="1400"/>
                </a:lnTo>
                <a:close/>
              </a:path>
              <a:path fill="darken" w="42551" h="21600">
                <a:moveTo>
                  <a:pt x="42551" y="0"/>
                </a:moveTo>
                <a:lnTo>
                  <a:pt x="42551" y="21600"/>
                </a:lnTo>
                <a:lnTo>
                  <a:pt x="41151" y="20200"/>
                </a:lnTo>
                <a:lnTo>
                  <a:pt x="41151" y="1400"/>
                </a:lnTo>
                <a:close/>
              </a:path>
              <a:path fill="darkenLess" w="42551" h="21600">
                <a:moveTo>
                  <a:pt x="42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51" y="20200"/>
                </a:lnTo>
                <a:close/>
              </a:path>
              <a:path fill="lighten" w="42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51" h="21600">
                <a:moveTo>
                  <a:pt x="14269" y="3794"/>
                </a:moveTo>
                <a:lnTo>
                  <a:pt x="28282" y="10800"/>
                </a:lnTo>
                <a:lnTo>
                  <a:pt x="14269" y="17806"/>
                </a:lnTo>
                <a:close/>
              </a:path>
            </a:pathLst>
          </a:cu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5T00:45:36Z</dcterms:created>
  <dc:creator>김 기정</dc:creator>
  <dc:description/>
  <dc:language>en-US</dc:language>
  <cp:lastModifiedBy>김 기정</cp:lastModifiedBy>
  <dcterms:modified xsi:type="dcterms:W3CDTF">2021-11-05T01:03:23Z</dcterms:modified>
  <cp:revision>7</cp:revision>
  <dc:subject/>
  <dc:title>PPT VBA TEST</dc:title>
</cp:coreProperties>
</file>